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7877A-F199-44D9-8B43-123E63321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25C4-B6C5-4B22-BFA3-ED8E3A9AA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am is rumored to be named in honor of the Monty Python skit, Spam!. In the skit, a customer is forced to select spam in his lunch. Much like we are forced to accept a spam message. Visit www.detritus.org/spam/skit.html for the entire spam ski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iscussion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pam is one topic that nearly everyone in the class can relate to. Have your students think about spam from the other side. Have them consider the point of view of the self proclaimed ‘Spam King’, Scott Richter. For some conversation fodder visit www.pcworld.com/news/article/0,aid,116807,00.asp.</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F4FB-5948-4795-B708-1C4F40345B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isit www.apc.com for information regarding UPS solu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arger installations use generators to protect networks. Hospitals, grocery stores and insurance companies may all use generators. Quite often the power solution is a combination of battery and generator. The batteries run long enough for the generators to start and stabilize. Then the batteries stop and the generators provide power to the facilit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4FD79-ACBE-43A9-8EE5-843DCC322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Discussion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2004 Hurricane Ivan caused massive damage to Florida and several other states. Network administrations in Florida are used to planning for hurricanes. However, computers in Southeastern Pennsylvania suffered massive loss of data due to Ivan. How culpable are the administrators in PA who did not plan for Iva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617F-7DFE-4091-8C8E-7947175F7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For information on specific viruses visit securityresponse.Symantec.co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ailed information regarding the protection from viruses, see the Computing keynote at the end of the chapter.</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074F9-7669-4C8B-AE20-CC0760C10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d Aware is sold by LavaSoft. The homepage is www.lavasoftusa.com/software/adaware/. Spybot is a product of Patrick M. Kolla. The true website is www.safer-networking.org/en/index.html.</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995D-8876-47D7-9D89-53CCA7929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ERT’s home page is located at www.cert.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9ADB5-A1F2-4265-8F87-A99E8F7B06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t is important to note that no countermeasure is 100% effective all of the time. For proof, discuss an instance of a locked car being stolen. A truly dedicated attacker will eventually break through any security.</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6F8D-9677-48C1-8282-5B6D6411C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move Hackers includes scenes demonstrating most of these crimes in action.</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9D0C-9C8E-4CA2-A744-DDE2D7C4EB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okies are named after the ‘magic cook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7D2B-9812-450B-96EB-F8262F433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DF72-777F-4C02-BA79-F0CEE6E41E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Teaching t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re information regarding web bugs can be found at en.wikipedia.org/wiki/Web_bu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2259F2-8D1D-4314-9AB6-188B3518FB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A8C5D6-6228-4EAF-BDE3-C1F268EDEF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69E0C-0D65-40F4-977A-E012196BD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476C4D-7579-4A1B-9F74-28684270D1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1143000" y="1294920"/>
            <a:ext cx="7848720" cy="5410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5B3F1-AFDF-4CB6-BA9C-182BC1966E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1143000" y="1294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114300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9692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450840" y="1294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114300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79692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450840" y="4120920"/>
            <a:ext cx="25272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 name="PlaceHolder 2"/>
          <p:cNvSpPr>
            <a:spLocks noGrp="1"/>
          </p:cNvSpPr>
          <p:nvPr>
            <p:ph/>
          </p:nvPr>
        </p:nvSpPr>
        <p:spPr>
          <a:xfrm>
            <a:off x="1143000" y="1294920"/>
            <a:ext cx="784872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8E8D-D756-4A43-B9CB-36EFFF4523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9"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E05DDC-D492-4A70-8029-FA3AC4E83F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sldNum" idx="1"/>
          </p:nvPr>
        </p:nvSpPr>
        <p:spPr/>
        <p:txBody>
          <a:bodyPr/>
          <a:p>
            <a:fld id="{D4D9DB5A-B02A-4D29-A6E3-B82139F5A2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5228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278859D-1238-42D1-AEF5-7B309FC741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516492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114300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C138E-DF73-4D4F-9F3E-8F8501EF39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 name="PlaceHolder 2"/>
          <p:cNvSpPr>
            <a:spLocks noGrp="1"/>
          </p:cNvSpPr>
          <p:nvPr>
            <p:ph/>
          </p:nvPr>
        </p:nvSpPr>
        <p:spPr>
          <a:xfrm>
            <a:off x="1143000" y="1294920"/>
            <a:ext cx="3830040" cy="5410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5164920" y="4120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38D9E-5AAD-4702-881D-E1B5621FFA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 name="PlaceHolder 2"/>
          <p:cNvSpPr>
            <a:spLocks noGrp="1"/>
          </p:cNvSpPr>
          <p:nvPr>
            <p:ph/>
          </p:nvPr>
        </p:nvSpPr>
        <p:spPr>
          <a:xfrm>
            <a:off x="114300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164920" y="1294920"/>
            <a:ext cx="383004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1143000" y="4120920"/>
            <a:ext cx="784872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D55AE7-D15C-4224-9F5F-4AE6B00684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ontent-screen"/>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1371600" y="64767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14A-</a:t>
            </a:r>
            <a:fld id="{2BFD5CD6-F0D5-4747-AE14-75ED7A82050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8" descr="chapter-title"/>
          <p:cNvPicPr/>
          <p:nvPr/>
        </p:nvPicPr>
        <p:blipFill>
          <a:blip r:embed="rId2"/>
          <a:stretch/>
        </p:blipFill>
        <p:spPr>
          <a:xfrm>
            <a:off x="0" y="0"/>
            <a:ext cx="9144000" cy="6858000"/>
          </a:xfrm>
          <a:prstGeom prst="rect">
            <a:avLst/>
          </a:prstGeom>
          <a:ln w="0">
            <a:noFill/>
          </a:ln>
        </p:spPr>
      </p:pic>
      <p:sp>
        <p:nvSpPr>
          <p:cNvPr id="41" name="Rectangle 10"/>
          <p:cNvSpPr/>
          <p:nvPr/>
        </p:nvSpPr>
        <p:spPr>
          <a:xfrm>
            <a:off x="3733920" y="647712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Book Antiqua"/>
              </a:rPr>
              <a:t>Copyright</a:t>
            </a:r>
            <a:r>
              <a:rPr b="0" lang="en-US" sz="1200" spc="-1" strike="noStrike">
                <a:solidFill>
                  <a:srgbClr val="ffffff"/>
                </a:solidFill>
                <a:latin typeface="Book Antiqua"/>
              </a:rPr>
              <a:t> </a:t>
            </a:r>
            <a:r>
              <a:rPr b="1" i="1" lang="en-US" sz="1200" spc="-1" strike="noStrike">
                <a:solidFill>
                  <a:srgbClr val="ffffff"/>
                </a:solidFill>
                <a:latin typeface="Book Antiqua"/>
              </a:rPr>
              <a:t>© 2006 by The McGraw-Hill Companies, Inc. All rights reserved.</a:t>
            </a:r>
            <a:endParaRPr b="0" lang="en-US" sz="1200" spc="-1" strike="noStrike">
              <a:solidFill>
                <a:srgbClr val="000000"/>
              </a:solidFill>
              <a:latin typeface="Arial"/>
            </a:endParaRPr>
          </a:p>
        </p:txBody>
      </p:sp>
      <p:sp>
        <p:nvSpPr>
          <p:cNvPr id="42" name="Rectangle 11"/>
          <p:cNvSpPr/>
          <p:nvPr/>
        </p:nvSpPr>
        <p:spPr>
          <a:xfrm>
            <a:off x="1066680" y="6477120"/>
            <a:ext cx="2743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6f2ea"/>
                </a:solidFill>
                <a:latin typeface="Book Antiqua"/>
              </a:rPr>
              <a:t>McGraw-Hill Technology Education</a:t>
            </a:r>
            <a:endParaRPr b="0" lang="en-US" sz="1200" spc="-1" strike="noStrike">
              <a:solidFill>
                <a:srgbClr val="000000"/>
              </a:solidFill>
              <a:latin typeface="Arial"/>
            </a:endParaRPr>
          </a:p>
        </p:txBody>
      </p:sp>
      <p:sp>
        <p:nvSpPr>
          <p:cNvPr id="43" name="PlaceHolder 1"/>
          <p:cNvSpPr>
            <a:spLocks noGrp="1"/>
          </p:cNvSpPr>
          <p:nvPr>
            <p:ph type="title"/>
          </p:nvPr>
        </p:nvSpPr>
        <p:spPr>
          <a:xfrm>
            <a:off x="304920" y="15228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4" name="PlaceHolder 2"/>
          <p:cNvSpPr>
            <a:spLocks noGrp="1"/>
          </p:cNvSpPr>
          <p:nvPr>
            <p:ph type="body"/>
          </p:nvPr>
        </p:nvSpPr>
        <p:spPr>
          <a:xfrm>
            <a:off x="1143000" y="1294920"/>
            <a:ext cx="7848720" cy="5410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09680" y="2166840"/>
            <a:ext cx="51818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cture 12</a:t>
            </a:r>
            <a:endParaRPr b="0" lang="en-US" sz="4000" spc="-1" strike="noStrike">
              <a:solidFill>
                <a:srgbClr val="ffffff"/>
              </a:solidFill>
              <a:latin typeface="Arial"/>
            </a:endParaRPr>
          </a:p>
        </p:txBody>
      </p:sp>
      <p:sp>
        <p:nvSpPr>
          <p:cNvPr id="89" name="PlaceHolder 2"/>
          <p:cNvSpPr>
            <a:spLocks noGrp="1"/>
          </p:cNvSpPr>
          <p:nvPr>
            <p:ph type="subTitle"/>
          </p:nvPr>
        </p:nvSpPr>
        <p:spPr>
          <a:xfrm>
            <a:off x="1085400" y="3047760"/>
            <a:ext cx="7658280" cy="1904760"/>
          </a:xfrm>
          <a:prstGeom prst="rect">
            <a:avLst/>
          </a:prstGeom>
          <a:noFill/>
          <a:ln w="0">
            <a:noFill/>
          </a:ln>
          <a:effectLst>
            <a:outerShdw dist="36147" dir="2700000" blurRad="0" rotWithShape="0">
              <a:srgbClr val="000000"/>
            </a:outerShdw>
          </a:effectLst>
        </p:spPr>
        <p:txBody>
          <a:bodyPr anchor="ctr" anchorCtr="1">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nderstanding the Need for Security Measu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C6AFD584-9BF1-4F47-A094-2669E8A5727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Users</a:t>
            </a:r>
            <a:endParaRPr b="0" lang="en-US" sz="4400" spc="-1" strike="noStrike">
              <a:solidFill>
                <a:srgbClr val="ffffff"/>
              </a:solidFill>
              <a:latin typeface="Arial"/>
            </a:endParaRPr>
          </a:p>
        </p:txBody>
      </p:sp>
      <p:sp>
        <p:nvSpPr>
          <p:cNvPr id="117"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solicited commercial emai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s and PCs need a spam blocke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spam before reaching the inbox</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mmers acquire addresses using many metho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SPAM Act passed in 200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661809AE-E113-4CE5-83AD-CB6FCE91D20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9"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Hardware</a:t>
            </a:r>
            <a:endParaRPr b="0" lang="en-US" sz="4400" spc="-1" strike="noStrike">
              <a:solidFill>
                <a:srgbClr val="ffffff"/>
              </a:solidFill>
              <a:latin typeface="Arial"/>
            </a:endParaRPr>
          </a:p>
        </p:txBody>
      </p:sp>
      <p:sp>
        <p:nvSpPr>
          <p:cNvPr id="120"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fect the operation or rel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wer-related threa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fluctua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pikes or browns ou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l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asur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 suppresso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 condition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nterruptible power suppl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ors</a:t>
            </a:r>
            <a:endParaRPr b="0" lang="en-US" sz="2400" spc="-1" strike="noStrike">
              <a:solidFill>
                <a:srgbClr val="000000"/>
              </a:solidFill>
              <a:latin typeface="Arial"/>
            </a:endParaRPr>
          </a:p>
        </p:txBody>
      </p:sp>
      <p:pic>
        <p:nvPicPr>
          <p:cNvPr id="121" name="Picture 4" descr="D:\My Documents\!books\norton im\chapter 14\ups.tif"/>
          <p:cNvPicPr/>
          <p:nvPr/>
        </p:nvPicPr>
        <p:blipFill>
          <a:blip r:embed="rId1"/>
          <a:stretch/>
        </p:blipFill>
        <p:spPr>
          <a:xfrm>
            <a:off x="6581880" y="3124080"/>
            <a:ext cx="2333520" cy="351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39F0F5D6-BC68-498D-85BA-26C62359D6B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Hardware</a:t>
            </a:r>
            <a:endParaRPr b="0" lang="en-US" sz="4400" spc="-1" strike="noStrike">
              <a:solidFill>
                <a:srgbClr val="ffffff"/>
              </a:solidFill>
              <a:latin typeface="Arial"/>
            </a:endParaRPr>
          </a:p>
        </p:txBody>
      </p:sp>
      <p:sp>
        <p:nvSpPr>
          <p:cNvPr id="12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ft and vandal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eves steal the entire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idental or intentional da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asur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the PC in a secure are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k the computer to a desk</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at near the comput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equip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se away loiter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ndle equipment with care</a:t>
            </a:r>
            <a:endParaRPr b="0" lang="en-US" sz="2400" spc="-1" strike="noStrike">
              <a:solidFill>
                <a:srgbClr val="000000"/>
              </a:solidFill>
              <a:latin typeface="Arial"/>
            </a:endParaRPr>
          </a:p>
        </p:txBody>
      </p:sp>
      <p:pic>
        <p:nvPicPr>
          <p:cNvPr id="125" name="Picture 5" descr="D:\My Documents\!books\norton im\chapter 14\lock.tif"/>
          <p:cNvPicPr/>
          <p:nvPr/>
        </p:nvPicPr>
        <p:blipFill>
          <a:blip r:embed="rId1"/>
          <a:stretch/>
        </p:blipFill>
        <p:spPr>
          <a:xfrm>
            <a:off x="6556320" y="3276720"/>
            <a:ext cx="2359080" cy="339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CBC6DC83-B72E-423F-9140-A4DED14A707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Hardware</a:t>
            </a:r>
            <a:endParaRPr b="0" lang="en-US" sz="4400" spc="-1" strike="noStrike">
              <a:solidFill>
                <a:srgbClr val="ffffff"/>
              </a:solidFill>
              <a:latin typeface="Arial"/>
            </a:endParaRPr>
          </a:p>
        </p:txBody>
      </p:sp>
      <p:sp>
        <p:nvSpPr>
          <p:cNvPr id="12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disas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s differ by 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result in total lo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aster plann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recover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potential disast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all eventualit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all plans</a:t>
            </a:r>
            <a:endParaRPr b="0" lang="en-US" sz="2400" spc="-1" strike="noStrike">
              <a:solidFill>
                <a:srgbClr val="000000"/>
              </a:solidFill>
              <a:latin typeface="Arial"/>
            </a:endParaRPr>
          </a:p>
        </p:txBody>
      </p:sp>
      <p:pic>
        <p:nvPicPr>
          <p:cNvPr id="129" name="Picture 4" descr="D:\My Documents\!books\norton im\chapter 14\fire.tif"/>
          <p:cNvPicPr/>
          <p:nvPr/>
        </p:nvPicPr>
        <p:blipFill>
          <a:blip r:embed="rId1"/>
          <a:stretch/>
        </p:blipFill>
        <p:spPr>
          <a:xfrm>
            <a:off x="5715000" y="4519440"/>
            <a:ext cx="3187800" cy="213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6F7F133D-79BF-4F69-9ADB-2B166476A30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32"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ost serious thre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the reason for compu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very difficult to repl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is difficul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intangi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D7015788-BB37-4A65-B0E8-995B56699B1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3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that distributes and installs itself</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ges from annoying to catastrophi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asur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softwa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p block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open unknown ema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0D8C16FC-5452-48AE-AB18-C0B245C7320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3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jan hor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that poses as beneficial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 willingly installs the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asur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virus softwa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yware bloc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E3005D80-8BE6-4A80-A83E-D16825494C1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41" name="PlaceHolder 2"/>
          <p:cNvSpPr>
            <a:spLocks noGrp="1"/>
          </p:cNvSpPr>
          <p:nvPr>
            <p:ph/>
          </p:nvPr>
        </p:nvSpPr>
        <p:spPr>
          <a:xfrm>
            <a:off x="1143000" y="1219320"/>
            <a:ext cx="7848720" cy="5410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crim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computer in an illegal a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ud and theft are common a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4B4F5056-BA7E-4303-B9B7-0D10BEFE6B4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4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et frau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common cybercr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udulent web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names similar to legitimate si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DFA9C10A-6B04-46A1-86D5-5F11B27522C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46"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47"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ck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a computer to enter another networ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users $1.3 trillion in 2003</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ers motiv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reational hack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hack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udge hacking</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ing method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iff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ngine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fing</a:t>
            </a:r>
            <a:endParaRPr b="0" lang="en-US" sz="2400" spc="-1" strike="noStrike">
              <a:solidFill>
                <a:srgbClr val="000000"/>
              </a:solidFill>
              <a:latin typeface="Arial"/>
            </a:endParaRPr>
          </a:p>
        </p:txBody>
      </p:sp>
      <p:pic>
        <p:nvPicPr>
          <p:cNvPr id="148" name="Picture 4" descr="D:\My Documents\!books\norton im\chapter 14\hacker.tif"/>
          <p:cNvPicPr/>
          <p:nvPr/>
        </p:nvPicPr>
        <p:blipFill>
          <a:blip r:embed="rId1"/>
          <a:stretch/>
        </p:blipFill>
        <p:spPr>
          <a:xfrm>
            <a:off x="5257800" y="4237200"/>
            <a:ext cx="3657600" cy="2392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029A9C6A-56E5-40F5-8A49-56E3C9F4D82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1"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Security Concepts</a:t>
            </a:r>
            <a:endParaRPr b="0" lang="en-US" sz="4400" spc="-1" strike="noStrike">
              <a:solidFill>
                <a:srgbClr val="ffffff"/>
              </a:solidFill>
              <a:latin typeface="Arial"/>
            </a:endParaRPr>
          </a:p>
        </p:txBody>
      </p:sp>
      <p:sp>
        <p:nvSpPr>
          <p:cNvPr id="92"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a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can harm a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ulnerabilities are weaknesses in secur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attempts to neutralize threa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8B744326-FBAD-4948-AC57-20902C08835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51"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denial of service attac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empt to stop a public serv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ckers plant the code on comput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is simultaneously launch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requests stops the serv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F6CD791A-AFD2-4D49-B764-F60CF0FA889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Data</a:t>
            </a:r>
            <a:endParaRPr b="0" lang="en-US" sz="4400" spc="-1" strike="noStrike">
              <a:solidFill>
                <a:srgbClr val="ffffff"/>
              </a:solidFill>
              <a:latin typeface="Arial"/>
            </a:endParaRPr>
          </a:p>
        </p:txBody>
      </p:sp>
      <p:sp>
        <p:nvSpPr>
          <p:cNvPr id="15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ber terroris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tacks made at a nations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s include power pl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at first realized in 1996</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combat cyber terroris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Emergency Response Team (CER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Homeland Secur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066680" y="1523880"/>
            <a:ext cx="7772400" cy="4114800"/>
          </a:xfrm>
          <a:prstGeom prst="rect">
            <a:avLst/>
          </a:prstGeom>
          <a:noFill/>
          <a:ln w="0">
            <a:noFill/>
          </a:ln>
          <a:effectLst>
            <a:outerShdw dist="36147" dir="2700000" blurRad="0" rotWithShape="0">
              <a:srgbClr val="000000"/>
            </a:outerShdw>
          </a:effectLst>
        </p:spPr>
        <p:txBody>
          <a:bodyPr anchor="ctr" anchorCtr="1">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nd of Chapte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BB491978-5999-48AE-BEAC-A84189E357D9}"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Security Concepts</a:t>
            </a:r>
            <a:endParaRPr b="0" lang="en-US" sz="4400" spc="-1" strike="noStrike">
              <a:solidFill>
                <a:srgbClr val="ffffff"/>
              </a:solidFill>
              <a:latin typeface="Arial"/>
            </a:endParaRPr>
          </a:p>
        </p:txBody>
      </p:sp>
      <p:sp>
        <p:nvSpPr>
          <p:cNvPr id="9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s of har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potential dam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parts of syste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data lo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privac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use hardwa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use softw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023E95FE-DF7B-4A29-ABEE-BA8974A5BF0F}"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asic Security Concepts</a:t>
            </a:r>
            <a:endParaRPr b="0" lang="en-US" sz="4400" spc="-1" strike="noStrike">
              <a:solidFill>
                <a:srgbClr val="ffffff"/>
              </a:solidFill>
              <a:latin typeface="Arial"/>
            </a:endParaRPr>
          </a:p>
        </p:txBody>
      </p:sp>
      <p:sp>
        <p:nvSpPr>
          <p:cNvPr id="9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s taken to block a thr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the data from thef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the system from thef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1F6B135B-D1ED-4BDA-ABAA-2B951C2B5EA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Users</a:t>
            </a:r>
            <a:endParaRPr b="0" lang="en-US" sz="4400" spc="-1" strike="noStrike">
              <a:solidFill>
                <a:srgbClr val="ffffff"/>
              </a:solidFill>
              <a:latin typeface="Arial"/>
            </a:endParaRPr>
          </a:p>
        </p:txBody>
      </p:sp>
      <p:sp>
        <p:nvSpPr>
          <p:cNvPr id="101"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ty Thef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ersonation by private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ef can ‘become’ the victim</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ed incidents ris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s of stealing inform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er surf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agg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pster div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ngineerin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tech methods</a:t>
            </a:r>
            <a:endParaRPr b="0" lang="en-US" sz="2400" spc="-1" strike="noStrike">
              <a:solidFill>
                <a:srgbClr val="000000"/>
              </a:solidFill>
              <a:latin typeface="Arial"/>
            </a:endParaRPr>
          </a:p>
        </p:txBody>
      </p:sp>
      <p:pic>
        <p:nvPicPr>
          <p:cNvPr id="102" name="Picture 4" descr="D:\My Documents\!books\norton im\chapter 14\dumpster.tif"/>
          <p:cNvPicPr/>
          <p:nvPr/>
        </p:nvPicPr>
        <p:blipFill>
          <a:blip r:embed="rId1"/>
          <a:stretch/>
        </p:blipFill>
        <p:spPr>
          <a:xfrm>
            <a:off x="5257800" y="4414680"/>
            <a:ext cx="3657600" cy="221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0F0E9204-7533-4D6B-915D-24B810DF8C78}"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Users</a:t>
            </a:r>
            <a:endParaRPr b="0" lang="en-US" sz="4400" spc="-1" strike="noStrike">
              <a:solidFill>
                <a:srgbClr val="ffffff"/>
              </a:solidFill>
              <a:latin typeface="Arial"/>
            </a:endParaRPr>
          </a:p>
        </p:txBody>
      </p:sp>
      <p:sp>
        <p:nvSpPr>
          <p:cNvPr id="105"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s of privac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information is stored electronical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chases are stored in a databas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s sold to other compan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records on the Inter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use is monitored and logg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se techniques are illeg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1F17B665-7486-469F-9942-755E5963D84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Users</a:t>
            </a:r>
            <a:endParaRPr b="0" lang="en-US" sz="4400" spc="-1" strike="noStrike">
              <a:solidFill>
                <a:srgbClr val="ffffff"/>
              </a:solidFill>
              <a:latin typeface="Arial"/>
            </a:endParaRPr>
          </a:p>
        </p:txBody>
      </p:sp>
      <p:sp>
        <p:nvSpPr>
          <p:cNvPr id="108"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k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delivered from a web si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improved a site’s 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kies now track history and passwo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owsers include cookie blocking too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15B94EEA-0A04-46F1-A9CE-EC756B422742}"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Users</a:t>
            </a:r>
            <a:endParaRPr b="0" lang="en-US" sz="4400" spc="-1" strike="noStrike">
              <a:solidFill>
                <a:srgbClr val="ffffff"/>
              </a:solidFill>
              <a:latin typeface="Arial"/>
            </a:endParaRPr>
          </a:p>
        </p:txBody>
      </p:sp>
      <p:sp>
        <p:nvSpPr>
          <p:cNvPr id="111"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y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downloaded to a compu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record personal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undesired softwa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des fro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programs exist to elimin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3"/>
          <p:cNvSpPr/>
          <p:nvPr/>
        </p:nvSpPr>
        <p:spPr>
          <a:xfrm>
            <a:off x="-1371600" y="647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A-</a:t>
            </a:r>
            <a:fld id="{50796AAC-B96D-4D8F-B24E-D14AE62D30B7}"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304920" y="152280"/>
            <a:ext cx="8534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reats to Users</a:t>
            </a:r>
            <a:endParaRPr b="0" lang="en-US" sz="4400" spc="-1" strike="noStrike">
              <a:solidFill>
                <a:srgbClr val="ffffff"/>
              </a:solidFill>
              <a:latin typeface="Arial"/>
            </a:endParaRPr>
          </a:p>
        </p:txBody>
      </p:sp>
      <p:sp>
        <p:nvSpPr>
          <p:cNvPr id="114" name="PlaceHolder 2"/>
          <p:cNvSpPr>
            <a:spLocks noGrp="1"/>
          </p:cNvSpPr>
          <p:nvPr>
            <p:ph/>
          </p:nvPr>
        </p:nvSpPr>
        <p:spPr>
          <a:xfrm>
            <a:off x="1143000" y="1294920"/>
            <a:ext cx="7848720" cy="5410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bug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programs embedded in gif im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s around cookie blocking too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nies use to track usag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ocked with spyware kill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3T02:43:34Z</dcterms:created>
  <dc:creator>Lee Cottrell</dc:creator>
  <dc:description/>
  <dc:language>en-US</dc:language>
  <cp:lastModifiedBy>mmalam</cp:lastModifiedBy>
  <dcterms:modified xsi:type="dcterms:W3CDTF">2015-08-09T07:55:42Z</dcterms:modified>
  <cp:revision>31</cp:revision>
  <dc:subject/>
  <dc:title>PowerPoint Presentation</dc:title>
</cp:coreProperties>
</file>